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312-3CB1-44F2-94BF-1A441400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DC5-9F02-46FA-90D0-6C9DF86D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C09-C33C-40C6-BABB-72EC340B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FF4-798B-4195-A6E4-B55C000B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6B5-1E70-4E6E-AF9F-AE6BCF09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157-A9C0-475C-9F2F-1256C736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A30-BEC4-4800-B9F6-7FED0EC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1B0-EEAD-4392-AED6-2C3F0BC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42B-A899-4F0E-80DB-9E311514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6FA-40CD-4C88-BCEB-BD4ED44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F02-4096-45AA-8D39-756DB2A6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BA3-DB89-4C16-952C-623EF01E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0830-FBC3-40A9-80B3-EADA02A2A76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omework from last week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use and Reflect pg 168 # 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tra students in schools creates a need to build more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undraising and joining environmental cl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hare your Knowledge pg 172 # 1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nada would not have been prepared to meet the needs of a changing population (schools, health care facili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eager to resume normal l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osperous time, people could afford to have several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rth control- more women attending university and starting their own car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hare your Knowledge pg 172 # 1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Nuclear Family- group consisting of a mother, father living with their children – Family Guy, Malcolm in the Mid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unterculture- hipp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terialism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lf-Fulfillment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hare your Knowledge pg 172 # 1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g. 151 Pause and Reflect #2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were marriage rates so high after WWII?  How did this effect demograp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were eager to resume normal lives after years of hardship and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mographic effect was a rapid rise in the # of children born immediately after the war- start of the baby b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g. 151 Pause and Reflect #2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plain how both immigration and societal values accelerated the baby b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st people arriving from other countries were young.  Marriage, home and family were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etal Values held marriage and family as the n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g. 151 Pause and Reflect #2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g. 151 Pause and Reflect #2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elop a list of five good reasons that could be used to account for long lasting marri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vorce not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mpeting Perspectives pg 164-1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ke a list of evidence that suggests that the “youth” is out of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creases in violent crime, sexual assaults, assaults, and robb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ng people having the highest crim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auses: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uts to welfare and other social programs, schools kicking kids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mpeting Perspectives pg 164-1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th crime is generally not in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iolent crime levels are not high enough to cause al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under 18 account for only 6% of all persons accused for homi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mpeting Perspectives pg 164-1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.  Articles suggest that when the economy is bad, social policy dictates that money should be cut from organizations that help young people, so the crime rates r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use and Reflect pg 168 # 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Job prospects are good because as the baby boomers approach retirement age there will be a large demand for people to take their place in the work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eater need for child services (housing, ed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eater buying power of youth (jo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54:15Z</dcterms:created>
  <dc:creator>Jason</dc:creator>
  <dc:description/>
  <dc:language>en-US</dc:language>
  <cp:lastModifiedBy>Jason</cp:lastModifiedBy>
  <dcterms:modified xsi:type="dcterms:W3CDTF">2011-01-04T14:28:52Z</dcterms:modified>
  <cp:revision>5</cp:revision>
  <dc:subject/>
  <dc:title>Homework from last week…</dc:title>
</cp:coreProperties>
</file>